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wmf" ContentType="image/x-wmf"/>
  <Override PartName="/ppt/media/chimes.wav" ContentType="audio/x-wav"/>
  <Override PartName="/ppt/media/gunshot.wav" ContentType="audio/x-wav"/>
  <Override PartName="/ppt/media/projctor.wav" ContentType="audio/x-wav"/>
  <Override PartName="/ppt/media/drumroll.wav" ContentType="audio/x-wav"/>
  <Override PartName="/ppt/media/clap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5C9-25C2-4117-973B-CD2FDAA9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69F-C75C-4C30-9288-397A3F51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67B-CFF9-45FE-9E53-681F4BE1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F0C-F563-4D74-B16B-F1B82CB9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DB0F-0FE7-4E04-AB00-9A2678C7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1819-CF87-4313-8984-C850F7EE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F72E-B5EC-4B75-969D-CE29FB17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F17B-8438-43D9-9E84-546FF8A7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6883-326B-4733-A848-E4FA78F0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ACCF-F8D8-422A-8599-312410E1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83DE-9EB4-4C2F-B9AC-7C1CD016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B56-6742-49F0-A969-B5349967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B124-B450-4F06-B2E6-CE149698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DC11-A383-4417-B0A3-7C1D26C8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B845-C7CA-45D6-85BC-DD874072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484F-BD44-4249-90F9-57F8A86A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6140-ADFB-464C-9EF8-05692D2F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C7A-E0F1-4B7B-806A-0A74DC46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3CD-F123-4CE5-A63F-911EFE99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26E-220D-4859-97E6-E2D30503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94B-40C3-448D-812E-A62A7AED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8D4-03D6-48E0-A807-8F5FBECC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42A-A68E-4B4F-B6D7-8F73414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9B7-0254-4838-8A0F-4AFFE863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69C3-5694-428E-BE14-A5BDD0AED4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D57D-8B2F-4406-93C5-4DED621815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Poetry Workshop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EF"/>
              </a:rPr>
              <a:t>Poetry is a way to put your feelings or expression into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Refrain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Repetitive line found throughout the po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Is usually found in the same place in each stan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Similar to the chorus in a so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dLib BT"/>
              </a:rPr>
              <a:t>Since Hanna Moved Awa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90720" y="19810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0880" y="1143000"/>
            <a:ext cx="43434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tires on my bike are fla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ky is grouchy gr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 least it sure feels like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ocolate ice cream tastes like pru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cember’s come to st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y’ve taken back the Mays and Ju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952880" y="1143000"/>
            <a:ext cx="39625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owers smell like halibu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lvet feels like h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ery handsome dog’s a mu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hing’s fun to laugh abou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hing’s fun to pl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y call me, but I won’t come 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Hanna moved a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dith Vior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y one of these possible refrai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my way to schoo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ink I’ll stay in 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at wa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sk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 it have to be 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aughed and giggled all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dLib BT"/>
              </a:rPr>
              <a:t>Poems can be..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Free 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Rhy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dLib BT"/>
              </a:rPr>
              <a:t>Free Verse Poems..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rhy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have a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have a 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Do not have a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:\Program Files\Common Files\Microsoft Shared\Clipart\cagcat50\BD06662_.WMF"/>
          <p:cNvPicPr/>
          <p:nvPr/>
        </p:nvPicPr>
        <p:blipFill>
          <a:blip r:embed="rId5"/>
          <a:stretch/>
        </p:blipFill>
        <p:spPr>
          <a:xfrm>
            <a:off x="4648320" y="2352600"/>
            <a:ext cx="3809880" cy="3371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dLib BT"/>
              </a:rPr>
              <a:t>Rhyming Poems..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Rhy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have a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Has a 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have a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C:\Program Files\Common Files\Microsoft Shared\Clipart\cagcat50\BD06675_.WMF"/>
          <p:cNvPicPr/>
          <p:nvPr/>
        </p:nvPicPr>
        <p:blipFill>
          <a:blip r:embed="rId5"/>
          <a:stretch/>
        </p:blipFill>
        <p:spPr>
          <a:xfrm>
            <a:off x="4889520" y="1981080"/>
            <a:ext cx="3327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Poetry Toolbox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Rhyth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Punct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Stanz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EF"/>
              </a:rPr>
              <a:t>Refr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6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Words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Choose the absolute best words for your poe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Use a thesaurus to replace dead wor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Think of your five senses; touch, taste, sight, hearing, and sm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Rhythm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Poems with rhythm usually contain rhyming words at the ends of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Specific syllables are str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The rhyming follows a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Rhyming dictionaries are helpful to create 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5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Punctuation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Is used to show the reader how to read the po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not have any punct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have commas, periods, question marks, and exclamation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Needs to be consist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dLib BT"/>
              </a:rPr>
              <a:t>Stanzas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A divided section with a group of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A format chosen by the po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EF"/>
              </a:rPr>
              <a:t>May include a rhyming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9:02:27Z</dcterms:created>
  <dc:creator>David Huff</dc:creator>
  <dc:description/>
  <dc:language>en-US</dc:language>
  <cp:lastModifiedBy>Rachel</cp:lastModifiedBy>
  <dcterms:modified xsi:type="dcterms:W3CDTF">2013-06-14T17:32:28Z</dcterms:modified>
  <cp:revision>13</cp:revision>
  <dc:subject/>
  <dc:title>Poetry Workshop</dc:title>
</cp:coreProperties>
</file>